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73152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22560" y="685440"/>
            <a:ext cx="261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0817-243B-463E-8177-69834FDFD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2122560" y="685800"/>
            <a:ext cx="261288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4BC5-748C-4FAC-9402-185DF3F3B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230-A1D5-4A1A-872C-303EE759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6D2-5D8C-46C9-97F1-35EA2719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E29C-F58C-441D-BC1E-0ACF8631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9164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17880" y="223992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50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9164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17880" y="5550480"/>
            <a:ext cx="212004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018-A87C-44DA-AD23-3BD13DA1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C10-D8A0-456C-870F-8D434B25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B8F-C97E-4D4A-9BDE-F88AE5B2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A9D-D2DA-4FFF-9421-8F1F0969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D53-13BD-4B20-92C7-567007D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5040" y="383760"/>
            <a:ext cx="6585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F22-C4F9-4F40-B003-51474153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4E2-D04F-4A1F-9CC8-1C7917E7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9320" y="555048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4FA-A3F5-45D8-9719-7930AF8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504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9320" y="2239920"/>
            <a:ext cx="321336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5040" y="5550480"/>
            <a:ext cx="6585120" cy="30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887-CB55-4219-9F0A-E2877FE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5040" y="383760"/>
            <a:ext cx="65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5040" y="2239920"/>
            <a:ext cx="65851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4680" y="8899560"/>
            <a:ext cx="170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98760" y="8899560"/>
            <a:ext cx="2317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41600" y="8899560"/>
            <a:ext cx="17082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9067-8EEC-4615-B86C-0A54C091B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Your Blog Ti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2057400" y="1200240"/>
            <a:ext cx="48006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g Entry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057400" y="1752480"/>
            <a:ext cx="4800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your blog entry he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6"/>
          <p:cNvSpPr/>
          <p:nvPr/>
        </p:nvSpPr>
        <p:spPr>
          <a:xfrm>
            <a:off x="304920" y="1219320"/>
            <a:ext cx="13716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bout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304920" y="2133720"/>
            <a:ext cx="1371600" cy="693396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6933960"/>
              <a:gd name="textAreaBottom" fmla="*/ 6867000 h 6933960"/>
            </a:gdLst>
            <a:ahLst/>
            <a:rect l="textAreaLeft" t="textAreaTop" r="textAreaRight" b="textAreaBottom"/>
            <a:pathLst>
              <a:path w="21600" h="109173">
                <a:moveTo>
                  <a:pt x="3600" y="0"/>
                </a:moveTo>
                <a:arcTo wR="3600" hR="3600" stAng="16200000" swAng="-5400000"/>
                <a:lnTo>
                  <a:pt x="0" y="105573"/>
                </a:lnTo>
                <a:arcTo wR="3600" hR="3600" stAng="10800000" swAng="-5400000"/>
                <a:lnTo>
                  <a:pt x="18000" y="1091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log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1:32:40Z</dcterms:created>
  <dc:creator>Sedgwick</dc:creator>
  <dc:description/>
  <dc:language>en-US</dc:language>
  <cp:lastModifiedBy>Sedgwick</cp:lastModifiedBy>
  <dcterms:modified xsi:type="dcterms:W3CDTF">2010-10-19T16:43:04Z</dcterms:modified>
  <cp:revision>4</cp:revision>
  <dc:subject/>
  <dc:title>Blog Title</dc:title>
</cp:coreProperties>
</file>